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1520" y="477720"/>
            <a:ext cx="9737640" cy="12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20" y="1735200"/>
            <a:ext cx="9737640" cy="235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1520" y="4089240"/>
            <a:ext cx="9737640" cy="108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1520" y="5167440"/>
            <a:ext cx="9737640" cy="14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3320" y="893880"/>
            <a:ext cx="110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08520" y="27874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760" y="413856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4760" y="465948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2600" y="565164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esearch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41640" y="1954080"/>
            <a:ext cx="68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roducts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41280" y="2562120"/>
            <a:ext cx="81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usinesses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40920" y="303696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40920" y="3384720"/>
            <a:ext cx="11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40560" y="3722760"/>
            <a:ext cx="106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01520" y="4581360"/>
            <a:ext cx="973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22280" y="3611520"/>
            <a:ext cx="9416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22280" y="3381480"/>
            <a:ext cx="9416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22280" y="2938320"/>
            <a:ext cx="9416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22280" y="2540160"/>
            <a:ext cx="9416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512720" y="477720"/>
            <a:ext cx="0" cy="612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512720" y="399960"/>
            <a:ext cx="0" cy="620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2649600" y="399960"/>
            <a:ext cx="0" cy="620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5681520" y="399960"/>
            <a:ext cx="0" cy="620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875720" y="399960"/>
            <a:ext cx="0" cy="620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9053640" y="399960"/>
            <a:ext cx="0" cy="620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691280" y="2174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719520" y="21744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hort-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6242040" y="21744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edium-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8101080" y="2174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ong-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9141480" y="21744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dc:language>en-US</dc:language>
  <cp:lastModifiedBy>Robert Phaal</cp:lastModifiedBy>
  <cp:lastPrinted>2001-09-04T10:45:25Z</cp:lastPrinted>
  <dcterms:modified xsi:type="dcterms:W3CDTF">2006-02-20T13:02:32Z</dcterms:modified>
  <cp:revision>335</cp:revision>
  <dc:subject/>
  <dc:title>No Slide Title</dc:title>
</cp:coreProperties>
</file>